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B675-A39B-4630-B3F8-6EF131B6D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0351-4631-4228-9BBF-77BAB8D2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F0DA-3E06-4F7B-B0C9-3DFD8F09C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6364-DC8C-4C4A-B90F-550FDC71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2AA9-170D-4CFA-B6A7-8C67FC40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E497-4CBC-469A-BC37-3AC2A732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D0DC-DEBA-4810-8961-287FBAA6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6B5F-FE0E-4CFE-BF61-F9C3D649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7B18-4B79-4603-9EFB-9F9C90CC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482F-B815-4F7F-849F-7F12728F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43AC-28E9-4087-937B-53FFABCE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83EA-5AF4-48B8-9D79-F5B53AD3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F983-482B-4CA9-8149-17EA3704F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freeplaymusic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eb.mit.edu/invent/iow/rubik.html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72200" y="50292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553080" y="5105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3886200"/>
            <a:ext cx="2895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yton Giusef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14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3657600"/>
            <a:ext cx="2057400" cy="1717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066680" y="228600"/>
            <a:ext cx="67820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ubik's Cub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3048120" y="289548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by: Erno Rub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5562720"/>
            <a:ext cx="51818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Army Ang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9/23/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343400" y="3962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Safar"/>
          <p:cNvPicPr/>
          <p:nvPr/>
        </p:nvPicPr>
        <p:blipFill>
          <a:blip r:embed="rId1"/>
          <a:stretch/>
        </p:blipFill>
        <p:spPr>
          <a:xfrm>
            <a:off x="228600" y="1676520"/>
            <a:ext cx="8686800" cy="2460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14600" y="5410080"/>
            <a:ext cx="64771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ubik’s Cub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ept. 19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rubik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00200" y="7621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no Rubik is the inventor of the Rubik’s Cub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Safar"/>
          <p:cNvPicPr/>
          <p:nvPr/>
        </p:nvPicPr>
        <p:blipFill>
          <a:blip r:embed="rId3"/>
          <a:stretch/>
        </p:blipFill>
        <p:spPr>
          <a:xfrm>
            <a:off x="304920" y="4648320"/>
            <a:ext cx="1485720" cy="19047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Rubik’s Cu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one of the Rubik’s cubes faces would be different colors at the st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26 square components and 54 outer surfaces, the number of alignments is in the multi-mill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every turn most of the colors will be mixed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no Rubik had patented the Rubik’s C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as a problem, at least two inventors had patented similar designs around that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bik’s Cube came out in 19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Erno Rub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o Rubik was born in Budapest in 194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o Rubik was born during the World War 2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o Rubik earns a degree in architecture in 196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o Rubik became a teacher in the interior dressing department at the Academy of Applied Arts and Crafts in Budap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3:58:30Z</dcterms:created>
  <dc:creator>install</dc:creator>
  <dc:description/>
  <dc:language>en-US</dc:language>
  <cp:lastModifiedBy>install</cp:lastModifiedBy>
  <dcterms:modified xsi:type="dcterms:W3CDTF">2011-09-26T13:56:39Z</dcterms:modified>
  <cp:revision>9</cp:revision>
  <dc:subject/>
  <dc:title>Slide 1</dc:title>
</cp:coreProperties>
</file>